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D8C-8534-4205-8838-85045386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B419-BF97-488F-A6D4-20BDB05F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B552-8215-456D-AA9B-53844647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2099-8254-42C2-89B0-ED6B0569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AC0-3027-4E24-90BB-CED359AE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451-9316-4725-90BC-0F819768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0F71-461C-4F93-A8E6-219E5751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E25-700D-445C-AB8A-F067918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8F1-465E-46F8-A740-879B0DDF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608-9BE9-46FF-A846-ADBEE6AA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656-D0E3-4A7B-8DBF-0477C22B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F34-CC3E-432A-AEC5-8B3784CA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DC3A-E403-432F-BD39-121BB99F0F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3:05Z</dcterms:created>
  <dc:creator>Dana</dc:creator>
  <dc:description/>
  <dc:language>en-US</dc:language>
  <cp:lastModifiedBy>Dana</cp:lastModifiedBy>
  <dcterms:modified xsi:type="dcterms:W3CDTF">2010-04-21T20:03:18Z</dcterms:modified>
  <cp:revision>1</cp:revision>
  <dc:subject/>
  <dc:title>Diapozitivul 1</dc:title>
</cp:coreProperties>
</file>